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5E2-9717-4439-8BFF-79DBF64C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015-8204-46D2-AF63-44888CA2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C4EA-32B3-410D-9A32-B7A6A598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D0D-0FE0-4CAA-A6C5-2907F7C7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12E5-5508-4853-A18B-5408DF5D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1FD5-BF6F-4E37-A60E-68113F65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5024-E0D8-4B26-BE61-08563FC4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BBDE-4AC2-4E75-BAD4-E7FC94A5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6471-9B2E-468E-9DBB-4E5A225A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8AAA-2106-4B92-AC55-5B17978D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5414-6FB9-40C8-9848-4B7B20C0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C55-8927-4992-86B6-6C471BD6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908F-656A-4660-8C6A-D11ABBFD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6FD4-C104-4411-8C47-FA34979B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6D7A-5007-4C4E-8BEB-D56B8E81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1380-3833-4BC8-8A9D-521999BF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A7E8-AF3C-41F6-A5CA-CEBEFB54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BDA-90E2-4FC9-BE57-A7E2D165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70E-E2A8-4396-B03C-F9F04C1B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185-90C7-4D6F-8233-B329744F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0F9-F900-4B71-82E6-1CB1238C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B81-5622-4685-869F-50F3F667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535-721B-484C-92FB-E971588A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006-C40D-47F9-8E20-A74D49F7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7759-C255-445A-8510-9D8CE8E5CF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7D05-9910-43CA-912D-72C1A07A31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pheres.ru/" TargetMode="External"/><Relationship Id="rId2" Type="http://schemas.openxmlformats.org/officeDocument/2006/relationships/hyperlink" Target="http://www.spheres.ru/" TargetMode="External"/><Relationship Id="rId3" Type="http://schemas.openxmlformats.org/officeDocument/2006/relationships/hyperlink" Target="http://www.spheres.ru/" TargetMode="External"/><Relationship Id="rId4" Type="http://schemas.openxmlformats.org/officeDocument/2006/relationships/hyperlink" Target="http://www.spheres.ru/" TargetMode="External"/><Relationship Id="rId5" Type="http://schemas.openxmlformats.org/officeDocument/2006/relationships/hyperlink" Target="http://www.spheres.ru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Актуальные вопросы изучения истории России и обществознания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Единый государственный экзамен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из 3 –х частей ( А,В, 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разрабатывается на 45 мин. ( урок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20 -22 заданий по обществозн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более 24 заданий по ис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70% - заданий по гос. стандарту ( примерно 70 -75 % учащихся должны выполнить зада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% -  задания повышенной сложности( в основном справляются хорошисты и отлични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28368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данного текста необходимо выяви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уждения и аргумент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ВТО – отдельная экономическая тема. Действительно, мы хотели бы стать членами ВТО. Но не любой ценой. Если мы в ближайшее время не договариваемся, то мы вынуждены будем прекратить для себя действие ряда соглашений, которые накладывали на нас дополнительные обязательства в рамках ВТ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11320"/>
            <a:ext cx="842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те логическую последовательность предложений таким образом, чтобы они составили связанный тек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решение Евросоюза показывает, насколько опасен путь са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даже сама « восьмерка» уже понимает, что без присутствия таких государств, как Китай, Индия, без использования так  называемого формата « аутрич» многие решения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 восьмерочном» - то формате не являются полноц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санкции, как правило, обоюдоострое оруж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« восьмерка» без России недееспособ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букв впишите в таблицу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0" y="-99000"/>
            <a:ext cx="10777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146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блоки современного    уро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блемно – мотивацио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формацио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флексивно – оценоч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Блочно –модульная технолог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яется в 60 – х год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а в Яп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70 -80 –х г. применяется в други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– 4 -6 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Информация( подготовка к ле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Обработка умений навыков( работа с документами, диаграммами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смысление ( семин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онтрольно –оценочная деятельность( зачет, тестирование, написание эсс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Урок – дискусс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элементы дискус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темы( пробле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лкновение позиций и разные мнения (наличие конфлик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ные временные рам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братной связи ( готовность сторон к обсужден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еделение ро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авила работы в ходе дискусси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ило поднятой р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казаться от агрессии, быть позитивно настрое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тикуя, предлаг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ышать и слушать друг друга ( не переб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злоупотреблять представленным словом ( соблюдать регламен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тиковать идеи, а не личность ( уважительно относиться к собеседни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навязывать свое м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лерантное отношение к другим мнениям и пози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бегать поу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держивать эмо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ть дискуссию, не повторяться, предлагать новые иде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люстрировать свои мысли приме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4224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Требования  к формулировке темы дискуссии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ость ( наличие разных подходов, столкновение мне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сность ( тема не должна давать возможность для обсуждения огромного числа пробл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тность учас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тность ( не должны задаваться личные чувства участников дискуссии, формулировка темы должна соответствовать принципу науч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ивность ( тема не должна оказывать давления на тех, кто ее обсужда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мы дискусс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ическая или линейная структура преподавания истории в школе? Плюсы и мину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чем преимущества  и недостатки нетрадиционных видов уроков истор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стройка: объективная необходимость или козырная карта М.С. Горбаче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3320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Методические возможности  игр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а –это мощный стимулятор обучения( активизирует познавательный интере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ремя игры активизируются психологические  процессы участников: внимание, запоминание, интерес, восприятие и мыш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а способна оживить самую сухую информацию, сделать яркой и запоминающей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764640"/>
            <a:ext cx="6629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9 декабря 2004 г. Правительством Российской Федерации было принято решение: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ать государственный образовательный стандарт общего образования второго поколения Министерством образования и науки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11268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77724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« Сфера» - 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spheres</a:t>
            </a: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ляр Ольга Геннадьев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( 495)- 7893040, доб. 31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gakishenkova@mai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чин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6868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зовы эпохи требуют от системы образ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большей гибк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прагмат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эффек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ориентированности на удовл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росов рынка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готовности выпускников школ к самостоятельному формированию образовательного запро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способности нести личную ответственность за собственное благополучие и благополуч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Информационная революция в системе образования совершает переход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оритета традиционных знаний, умений и навы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оритету личностного развития, культурного самоопределения и формирования компетенций, необходимых человеку и гражданину для жизни в условиях современн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Каскадная ( тьюторская) модель повышения квалификации учителей истории и обществознания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ью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пециалист, который в сети повышения квалификации выполняет функции: преподавателя, консультанта, методиста и настав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ью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пециалист, осуществляющий сопровождение индивидуальных  образовательных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сновная задача деятельности тьютор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строе и эффективное включение в инновационную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полагает оптимальный выбор и использование учебных технологий, методов, средств, организационных фор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и индивидуальных алгоритмов деятельности обучае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ногоуровневость модел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едеральный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гиональный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униципальный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кольный уров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пробац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К « История Росси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ек» под ред. Данилова А.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К « Обществознание. Глобальный мир в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ке». Л.В. Поляков, А.Н. Иофф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 апробации принимали участи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Федеральных округ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регионов, в том числе 3 республ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преподаватель из 18 ОУ, в том числе 5 сельских шк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спублике Башкортостан  - гимназия № 1 г. Стерлитамак: учитель истории Вахрушев Е.Л., Михеева Г.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8:34:52Z</dcterms:created>
  <dc:creator>User</dc:creator>
  <dc:description/>
  <dc:language>en-US</dc:language>
  <cp:lastModifiedBy>газиз</cp:lastModifiedBy>
  <dcterms:modified xsi:type="dcterms:W3CDTF">2009-11-24T06:07:56Z</dcterms:modified>
  <cp:revision>12</cp:revision>
  <dc:subject/>
  <dc:title>Актуальные вопросы изучения истории России и обществознания.</dc:title>
</cp:coreProperties>
</file>